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7F8-F189-402F-B225-7CB9F404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7D1-A141-478E-BA31-C09226B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601-0084-4F9E-834C-0A299E39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E5B-47A2-4F49-B4E2-8F2E771E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26A-8041-4CE9-AA03-566C624F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526-2E91-416B-BC99-FF2D5FB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619-1C5A-43B4-B00D-36D75E8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835-08A4-4298-9839-4DD98D2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75E-5250-4573-B373-FFBE161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141-F96B-4348-9584-62D3FFA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E68-4FE7-468C-80C5-EC98E07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A0B-6C80-4A5F-BC98-0DBB0FE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C68-2929-4CED-A515-CB7F98A1CFF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ANd9GcRkQ6sxnF-WSRfXVKT7s1tWNAbq4QthiP6oKJ9Q_qsj9MsNUb7dQg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666880"/>
            <a:ext cx="6781680" cy="21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Une journée dans la vie de Judy, le coc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5333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y: Meghan Hur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nd Inna Ka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809880" y="2786040"/>
            <a:ext cx="1524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3809880" y="2786040"/>
            <a:ext cx="1524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pig-driving-car"/>
          <p:cNvPicPr/>
          <p:nvPr/>
        </p:nvPicPr>
        <p:blipFill>
          <a:blip r:embed="rId1"/>
          <a:stretch/>
        </p:blipFill>
        <p:spPr>
          <a:xfrm>
            <a:off x="228600" y="15840"/>
            <a:ext cx="891540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152280" y="6094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Arial"/>
              </a:rPr>
              <a:t>Elle conduit au travail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g_hi" descr="ANd9GcQXB5Z3XsOp7PeEJRnD-H3XMXxmR1Uy6az756Z_DnkfdBnxLSZJ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934320" y="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le prend son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jeu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g_hi" descr="ANd9GcR_d6QrMwtEF6U0DSN7xbvRlw8cVp9FI0JhxepCdA70P6592s5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Judy va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à la « Porc Lavag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062504-Clipart-Cartoon-Pig-Racing-A-Hot-Rod-Royalty-Free-Vector-Illustration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791320" y="99072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Chez elle se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épêche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du trav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g_hi" descr="ANd9GcQw-27WdWX6EyLrOZooQzmQsMHl2sDT5zWZsdjU3s9pgQD3bY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486400" y="38088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y prend le dî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Nd9GcSok3ukmXr2Rzq2zMZyhd4tCUPMAjC3SMw0d9-elA8rI4kj_hjIcw"/>
          <p:cNvPicPr/>
          <p:nvPr/>
        </p:nvPicPr>
        <p:blipFill>
          <a:blip r:embed="rId1"/>
          <a:stretch/>
        </p:blipFill>
        <p:spPr>
          <a:xfrm>
            <a:off x="762120" y="533520"/>
            <a:ext cx="532260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235480" y="609480"/>
            <a:ext cx="358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le allume le télévision apres le dî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g_hi" descr="ANd9GcSmv-HRrcJ5F_5OPn3mCEZgHTdZnWkLnhTQf06NfoXMl_NQwVzE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80880" y="304920"/>
            <a:ext cx="26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y se couche. Elle s’endormi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3657600" cy="23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09480" y="68580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066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Judy se réveil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447920" y="43434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lle se lé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g_hi" descr="ANd9GcQyCXXpthwfnWWV4Qdwmgm47RaEzrfPe9smFSxQK4qf1c0ymyyic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Arial"/>
              </a:rPr>
              <a:t>Elle se prendre la bain de la bo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ig brushing its teeth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486400" y="6858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248520" y="762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29528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Arial"/>
              </a:rPr>
              <a:t>Elle se brosse les 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g_hi" descr="ANd9GcQqX6WqhxAGTDdJ4o8sU8LmL2OP1FOd8Q9_kY0jMnH5fN3AL8V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029200" y="3808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ff"/>
                </a:solidFill>
                <a:latin typeface="Arial"/>
              </a:rPr>
              <a:t>Elle prend son petit d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éjeu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Nd9GcS8q3k8txQ9HOd5i0dSmwbslpmOAFsHoNdDo_-yf_SJbX33SS4s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85800" y="304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ff"/>
                </a:solidFill>
                <a:latin typeface="Arial"/>
              </a:rPr>
              <a:t>Elle se brosse les cheveux.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3367080" y="2481120"/>
            <a:ext cx="24098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367080" y="2481120"/>
            <a:ext cx="24098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tumblr_lkniszc19a1qbhqak"/>
          <p:cNvPicPr/>
          <p:nvPr/>
        </p:nvPicPr>
        <p:blipFill>
          <a:blip r:embed="rId1"/>
          <a:stretch/>
        </p:blipFill>
        <p:spPr>
          <a:xfrm>
            <a:off x="0" y="792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594360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Elle s’habil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lipstick p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895480" y="5334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Elle se maquil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12:00Z</dcterms:created>
  <dc:creator>hurleymeg</dc:creator>
  <dc:description/>
  <dc:language>en-US</dc:language>
  <cp:lastModifiedBy>Inna Kagan</cp:lastModifiedBy>
  <dcterms:modified xsi:type="dcterms:W3CDTF">2012-03-12T01:35:46Z</dcterms:modified>
  <cp:revision>7</cp:revision>
  <dc:subject/>
  <dc:title>A Day in the Life of Judy, the Pig</dc:title>
</cp:coreProperties>
</file>